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3FA5-54DD-4308-BDB7-1EB456EC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7EE-21DF-4038-93BE-0BBC8B7D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005-AF85-4CFB-86A9-F536F000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4FC-9768-48BC-A4C0-39570C37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1B7-B214-447B-92EB-77146A04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E56-7427-48C7-8DB5-6745A861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7E8-E206-4C16-9E45-B09FAB90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CB7-F257-499D-B5D7-7EF2C901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B87-C4CC-4AE7-82F3-A2E8443B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6DE-F33B-469D-A3CF-C82FA367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1CB-BAF0-4250-BA8A-33BC5482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1EE-13D7-40AD-9F29-5941EF1B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D499-A41C-455C-BD1E-558312ABE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2362320" y="2666880"/>
            <a:ext cx="441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1752480" y="12193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h Deutc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2362320" y="2666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fa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rcRect l="18686" t="44446" r="36669" b="42224"/>
          <a:stretch/>
        </p:blipFill>
        <p:spPr>
          <a:xfrm>
            <a:off x="1219320" y="1828800"/>
            <a:ext cx="5659200" cy="1371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19320" y="35809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in Flug nach Deutschland kost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7.22 Eu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rcRect l="16669" t="62295" r="41664" b="29289"/>
          <a:stretch/>
        </p:blipFill>
        <p:spPr>
          <a:xfrm>
            <a:off x="1905120" y="228600"/>
            <a:ext cx="4724280" cy="1676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1523880" y="243828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h gehe ins berlin mit meine welcome card. Das kostest 17,90 Eu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rcRect l="30477" t="66669" r="11429" b="17391"/>
          <a:stretch/>
        </p:blipFill>
        <p:spPr>
          <a:xfrm>
            <a:off x="1741320" y="1600200"/>
            <a:ext cx="5659560" cy="1295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2362320" y="3581280"/>
            <a:ext cx="48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ine hotel bei die Grand Hotel Esplanade Berlin kostet mich 80.92 Eu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meinem Hotel gibt es eine gute Hallenbad. Also mein Hotel hat ein gutes Restaurant die Eck Restaurant. Mein Hotel hat auch einen schönen Sp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erlin Ich besuchte viele Orte.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ch besuchte die Berliner Mauer. Und ich besuchten das Rathaus. Auch besuchte ich am Checkpoint Charlie. Und dann besuchte ich das Brandenburger Tor. Und schließlich besuchte ich den Reich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ine Reise nach Berlin kostete mich 1,669.53 Eu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17:30Z</dcterms:created>
  <dc:creator>CUSD220</dc:creator>
  <dc:description/>
  <dc:language>en-US</dc:language>
  <cp:lastModifiedBy>Tina Adams</cp:lastModifiedBy>
  <dcterms:modified xsi:type="dcterms:W3CDTF">2012-01-10T01:11:38Z</dcterms:modified>
  <cp:revision>11</cp:revision>
  <dc:subject/>
  <dc:title>Slide 1</dc:title>
</cp:coreProperties>
</file>